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19.gif" ContentType="image/gif"/>
  <Override PartName="/ppt/media/image17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4.jpeg" ContentType="image/jpeg"/>
  <Override PartName="/ppt/media/image6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A50-D8BD-461F-B0FC-4FFF63FE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DCC-EDCC-4426-B325-13343BBE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00D-81F9-4860-9F72-785E5A72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C80-2079-4DCD-9BEC-DB65C820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D80E-4A0A-4115-B1BF-E12F1400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8AD1-17DC-4F85-9B4B-F746811C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E4FE-F244-401B-81A7-51DD722D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3618-0129-47C0-885D-1E602EFB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921B-7AD4-4530-9F6E-5D110929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97CB-EF10-4AD0-A7C0-EA1BA252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B4B9-9E2A-462C-ACC1-91A7074A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355-4A0F-41F3-BD6B-6B1C1036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FB14-5712-4FFD-84FC-F36E3A5D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0AD7-A6CE-4B5F-A5A3-6E75D7C3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C061-9DC3-4D10-90BD-F1D1A8A8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D3F2-3197-4E3C-840C-F3493649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47AC-7F1F-41D3-BF54-63C115E5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B39-A01A-45D2-AC02-3402013A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EBC-3681-47C1-A3F9-66E62C32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A29-44B7-456D-B796-4199B32B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6A7-E226-47A8-9957-DFD45FE7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1D2-4228-426C-8B04-821F1D0A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35E-F389-47F7-9F7C-E64573D2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E44-5A61-4BF1-A361-FF21FBA2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6405b"/>
                </a:gs>
                <a:gs pos="100000">
                  <a:srgbClr val="538dc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B6CC-4921-45EA-BC4E-1BA83695F3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DB8B-2DBC-458E-BE54-7D32F04E1D92}" type="slidenum"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6"/>
          <p:cNvSpPr txBox="1"/>
          <p:nvPr/>
        </p:nvSpPr>
        <p:spPr>
          <a:xfrm>
            <a:off x="324000" y="1197000"/>
            <a:ext cx="856908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01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8f8f8"/>
                </a:solidFill>
                <a:latin typeface="Impact"/>
              </a:rPr>
              <a:t>Компьютерные игры, развивающие 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8f8f8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8f8f8"/>
                </a:solidFill>
                <a:latin typeface="Impact"/>
              </a:rPr>
              <a:t>интеллектуальные способности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8f8f8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8f8f8"/>
                </a:solidFill>
                <a:latin typeface="Impact"/>
              </a:rPr>
              <a:t>детей дошкольного возраста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8f8f8"/>
              </a:solidFill>
              <a:latin typeface="Impact"/>
              <a:ea typeface="Impact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189000"/>
            <a:ext cx="3887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унегова Ирина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Шарапова Наталь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36 группа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5616720" cy="2979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700360" y="3284640"/>
            <a:ext cx="5638680" cy="335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916360" y="3500280"/>
            <a:ext cx="5662440" cy="309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5616360" cy="31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916360" y="115920"/>
            <a:ext cx="5256000" cy="3025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2916360" y="3213000"/>
            <a:ext cx="5287680" cy="345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195640" y="54936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.Компьютерные программы ведут уже в дошкольном возрасте к становлению способности объективно оценивать результаты и ход собственной деятельности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050920" y="3284640"/>
            <a:ext cx="662040" cy="2160360"/>
          </a:xfrm>
          <a:custGeom>
            <a:avLst/>
            <a:gdLst>
              <a:gd name="textAreaLeft" fmla="*/ 88560 w 662040"/>
              <a:gd name="textAreaRight" fmla="*/ 573480 w 662040"/>
              <a:gd name="textAreaTop" fmla="*/ 378000 h 2160360"/>
              <a:gd name="textAreaBottom" fmla="*/ 156636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8352000" y="3429000"/>
            <a:ext cx="792000" cy="2016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346320 h 2016000"/>
              <a:gd name="textAreaBottom" fmla="*/ 148068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4" stAng="-5400000" swAng="5400000"/>
                <a:lnTo>
                  <a:pt x="21600" y="12152"/>
                </a:lnTo>
                <a:arcTo wR="21600" hR="7424" stAng="0" swAng="2651440"/>
                <a:lnTo>
                  <a:pt x="7200" y="21175"/>
                </a:lnTo>
                <a:lnTo>
                  <a:pt x="0" y="17212"/>
                </a:lnTo>
                <a:lnTo>
                  <a:pt x="7200" y="12399"/>
                </a:lnTo>
                <a:lnTo>
                  <a:pt x="7200" y="14423"/>
                </a:lnTo>
                <a:arcTo wR="21600" hR="7424" stAng="2651440" swAng="-2256288"/>
                <a:lnTo>
                  <a:pt x="20476" y="9788"/>
                </a:lnTo>
                <a:arcTo wR="21600" hR="7424" stAng="-395152" swAng="-5004848"/>
                <a:close/>
              </a:path>
              <a:path fill="darkenLess" w="21600" h="21600">
                <a:moveTo>
                  <a:pt x="0" y="0"/>
                </a:moveTo>
                <a:arcTo wR="21600" hR="7424" stAng="-5400000" swAng="5400000"/>
                <a:lnTo>
                  <a:pt x="21600" y="12152"/>
                </a:lnTo>
                <a:arcTo wR="21600" hR="7424" stAng="0" swAng="-395152"/>
                <a:lnTo>
                  <a:pt x="20476" y="9788"/>
                </a:lnTo>
                <a:arcTo wR="21600" hR="7424" stAng="-395152" swAng="-5004848"/>
                <a:close/>
              </a:path>
            </a:pathLst>
          </a:cu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843280" y="4869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деемся, что мы ВАС убедили в этом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3" name="Picture 7" descr="гусеница"/>
          <p:cNvPicPr/>
          <p:nvPr/>
        </p:nvPicPr>
        <p:blipFill>
          <a:blip r:embed="rId1"/>
          <a:stretch/>
        </p:blipFill>
        <p:spPr>
          <a:xfrm>
            <a:off x="4716360" y="5373720"/>
            <a:ext cx="172728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формирование компетентности в области компьютерных игр развивающих интеллектуальных способности детей дошкольного возраста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627280" y="549360"/>
            <a:ext cx="5762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дактическая цель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7" descr="компьютер2"/>
          <p:cNvPicPr/>
          <p:nvPr/>
        </p:nvPicPr>
        <p:blipFill>
          <a:blip r:embed="rId1"/>
          <a:stretch/>
        </p:blipFill>
        <p:spPr>
          <a:xfrm>
            <a:off x="2411280" y="4508640"/>
            <a:ext cx="2737080" cy="217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484360" y="206028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бъяснить значение компьютерных программ в жизни дошкольников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бъяснить необходимость применения компьютеров для детей дошкольного возраста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Сформировать представления о компьютерных играх развивающих интеллектуальные способности детей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84328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тодические задачи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5" descr="дискета"/>
          <p:cNvPicPr/>
          <p:nvPr/>
        </p:nvPicPr>
        <p:blipFill>
          <a:blip r:embed="rId1"/>
          <a:stretch/>
        </p:blipFill>
        <p:spPr>
          <a:xfrm>
            <a:off x="6588000" y="1197000"/>
            <a:ext cx="2087640" cy="136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2843280" y="189000"/>
            <a:ext cx="5914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ополагающий вопрос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2627280" y="1773360"/>
            <a:ext cx="6050160" cy="4392360"/>
          </a:xfrm>
          <a:prstGeom prst="horizontalScroll">
            <a:avLst>
              <a:gd name="adj" fmla="val 12500"/>
            </a:avLst>
          </a:prstGeom>
          <a:solidFill>
            <a:srgbClr val="879ec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72f0f"/>
                </a:solidFill>
                <a:latin typeface="Arial"/>
              </a:rPr>
              <a:t>Существует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72f0f"/>
                </a:solidFill>
                <a:latin typeface="Arial"/>
              </a:rPr>
              <a:t>ли связь между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72f0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72f0f"/>
                </a:solidFill>
                <a:latin typeface="Arial"/>
              </a:rPr>
              <a:t>компьютером и ребенком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6" name="Picture 6" descr="человек"/>
          <p:cNvPicPr/>
          <p:nvPr/>
        </p:nvPicPr>
        <p:blipFill>
          <a:blip r:embed="rId1"/>
          <a:stretch/>
        </p:blipFill>
        <p:spPr>
          <a:xfrm>
            <a:off x="7524720" y="5229360"/>
            <a:ext cx="1368360" cy="145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411280" y="155736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Важен ли компьютер для развития дошкольников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Когда можно приобщать детей к компьютерным играм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Есть ли компьютерные игры, развивающие интеллектуальные способности детей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8" name="Picture 8" descr="компьютер"/>
          <p:cNvPicPr/>
          <p:nvPr/>
        </p:nvPicPr>
        <p:blipFill>
          <a:blip r:embed="rId1"/>
          <a:stretch/>
        </p:blipFill>
        <p:spPr>
          <a:xfrm>
            <a:off x="7236000" y="4724280"/>
            <a:ext cx="1908000" cy="1873440"/>
          </a:xfrm>
          <a:prstGeom prst="rect">
            <a:avLst/>
          </a:prstGeom>
          <a:ln w="0">
            <a:noFill/>
          </a:ln>
        </p:spPr>
      </p:pic>
      <p:sp>
        <p:nvSpPr>
          <p:cNvPr id="99" name="WordArt 9"/>
          <p:cNvSpPr txBox="1"/>
          <p:nvPr/>
        </p:nvSpPr>
        <p:spPr>
          <a:xfrm>
            <a:off x="2556000" y="189000"/>
            <a:ext cx="590364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ные вопросы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484360" y="333360"/>
            <a:ext cx="6400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беспечивает развивающий эффект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Преодолевает «социальную изоляцию»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Раскрывает способности детей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Стимулируют индивидуальную деятельность, творческий потенциал ребенка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Позволяет увидеть продукт своего воображения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Позволяет восстановить динамику своего творчества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2268360" y="0"/>
            <a:ext cx="6696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начение компьютера для дошкольников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7" descr="диск"/>
          <p:cNvPicPr/>
          <p:nvPr/>
        </p:nvPicPr>
        <p:blipFill>
          <a:blip r:embed="rId1"/>
          <a:stretch/>
        </p:blipFill>
        <p:spPr>
          <a:xfrm>
            <a:off x="8101080" y="1197000"/>
            <a:ext cx="718920" cy="57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84360" y="189000"/>
            <a:ext cx="640080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427640" y="170028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87c"/>
                </a:solidFill>
                <a:latin typeface="Arial"/>
              </a:rPr>
              <a:t>Базовые виды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87c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287960" y="32846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Предметно-продуктивна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411280" y="1557360"/>
            <a:ext cx="158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Игрова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5867280" y="76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Конструктивна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7238160" y="191628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Музыкальна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987640" y="765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Изобразительна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2556000" y="3789360"/>
            <a:ext cx="6264000" cy="1008000"/>
          </a:xfrm>
          <a:prstGeom prst="downArrowCallout">
            <a:avLst>
              <a:gd name="adj1" fmla="val 155371"/>
              <a:gd name="adj2" fmla="val 135477"/>
              <a:gd name="adj3" fmla="val 16667"/>
              <a:gd name="adj4" fmla="val 66667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187c"/>
                </a:solidFill>
                <a:latin typeface="Arial"/>
              </a:rPr>
              <a:t>Если они развиты</a:t>
            </a:r>
            <a:r>
              <a:rPr b="0" lang="ru-RU" sz="2400" spc="-1" strike="noStrike">
                <a:solidFill>
                  <a:srgbClr val="10187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2843280" y="4941720"/>
            <a:ext cx="5832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В 3 г-простейшие способы управления на          компьютере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Компьютер новое средство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5003640" y="2637000"/>
            <a:ext cx="1224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3780000" y="1773360"/>
            <a:ext cx="647640" cy="718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6659640" y="1773360"/>
            <a:ext cx="57636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4427640" y="1197000"/>
            <a:ext cx="77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AutoShape 24"/>
          <p:cNvSpPr/>
          <p:nvPr/>
        </p:nvSpPr>
        <p:spPr>
          <a:xfrm>
            <a:off x="5867280" y="1197000"/>
            <a:ext cx="77328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7" name="Picture 25" descr="книга1"/>
          <p:cNvPicPr/>
          <p:nvPr/>
        </p:nvPicPr>
        <p:blipFill>
          <a:blip r:embed="rId1"/>
          <a:stretch/>
        </p:blipFill>
        <p:spPr>
          <a:xfrm>
            <a:off x="6877080" y="5300640"/>
            <a:ext cx="1871640" cy="142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84360" y="259920"/>
            <a:ext cx="602136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едлагаем перечень компьютерных игр, развивающих интеллектуальные способности детей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446400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203640" y="3933720"/>
            <a:ext cx="4464000" cy="273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5437080" cy="400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2843280" y="189000"/>
            <a:ext cx="547380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7:52:34Z</dcterms:created>
  <dc:creator>Наташа</dc:creator>
  <dc:description/>
  <dc:language>en-US</dc:language>
  <cp:lastModifiedBy>Габов Сергей</cp:lastModifiedBy>
  <dcterms:modified xsi:type="dcterms:W3CDTF">2011-03-15T06:20:26Z</dcterms:modified>
  <cp:revision>15</cp:revision>
  <dc:subject/>
  <dc:title>Слайд 1</dc:title>
</cp:coreProperties>
</file>